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28C0-82C8-4BB4-A0DA-C52DA92E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B25-8139-4C1F-A216-502831B1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78AD-F8C7-4229-8F07-F1DADB75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03F-87F9-44E4-B02F-DD0EED37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F808-11F2-4EB8-9C73-84610F17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DE4B-3C5A-4003-959B-0E99A868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A32C-AE09-4FD1-8746-9F3D1310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492B-20E5-43BF-946D-3D7B9282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066B-66EC-4401-9AF0-AA17A9C0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352A-8EBA-42FF-88F6-98ADEC95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5A24-0CCE-4A65-8307-52605B84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B3A-D5CC-4F55-B665-26214822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9A73-C7BE-49AA-AAB1-3D3A46CD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F3F2-F963-4905-AA96-01168D1E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5F4A-FA64-4302-AAFA-45B05D6C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879C-50B4-4A4D-8F65-DABCE198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EC68-34E4-41EC-B803-8FD20DDB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A4D-C0BF-4330-83AB-B06A191B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1EB-432C-4F1D-A37A-AD065E76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067-3D31-4CC6-8DB6-DDBB8AD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DB2-6E51-4EF9-B4A2-AEE6662A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3268-166D-4E7C-B664-6DA47B7E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984-3BE2-473D-A634-659317ED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CE0-1B2C-4053-BF91-E43BC69F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8DBC-66A5-4063-B352-9BADF19D9E8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6648-34EB-4EF3-BFDB-44E9875434E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esd/reserve/images/snakes5.jpg&amp;imgrefurl=http://warriorsfansite.wetpaint.com/page/foxclan%2Bfreshkill%2Bpile.&amp;h=787&amp;w=1014&amp;sz=281&amp;hl=en&amp;start=6&amp;tbnid=01HYbm49eZYdlM:&amp;tbnh=116&amp;tbnw=150&amp;prev=/images%3Fq%3Dsnakes%26gbv%3D2%26hl%3Den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rpnet.net/Iowa-Herpetology/images/stories/reptiles/snakes/Storeria_redbelly_snake/Storeria_RedBellySnakes_03_02.jpg&amp;imgrefurl=http://www.herpnet.net/Iowa-Herpetology/index.php%3Foption%3Dcom_content%26task%3Dview%26id%3D60%26Itemid%3D26&amp;h=311&amp;w=320&amp;sz=77&amp;hl=en&amp;start=13&amp;tbnid=XxnQn9GWdZMqgM:&amp;tbnh=115&amp;tbnw=118&amp;prev=/images%3Fq%3Dsnakes%26gbv%3D2%26hl%3Den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loridasnakes.net/coral-snake.jpg&amp;imgrefurl=http://www.floridasnakes.net/coralsnakes.htm&amp;h=336&amp;w=448&amp;sz=39&amp;hl=en&amp;start=3&amp;tbnid=onbQ0aMnW3-L_M:&amp;tbnh=95&amp;tbnw=127&amp;prev=/images%3Fq%3Dsnakes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esd/reserve/images/snakes3.jpg&amp;imgrefurl=http://cakerockstheparty.wordpress.com/category/dun-dun-dunnnnnnnnnh/&amp;h=541&amp;w=864&amp;sz=110&amp;hl=en&amp;start=5&amp;tbnid=ZEQ7Vpq6lORQTM:&amp;tbnh=91&amp;tbnw=145&amp;prev=/images%3Fq%3Dsnakes%26gbv%3D2%26hl%3Den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gthings.ca/manitoba/pictures/snakes1.jpg&amp;imgrefurl=http://www.bigthings.ca/manitoba/inwood.html&amp;h=337&amp;w=500&amp;sz=41&amp;hl=en&amp;start=2&amp;tbnid=MG0ePcMcvUJRDM:&amp;tbnh=88&amp;tbnw=130&amp;prev=/images%3Fq%3Dsnakes%26gbv%3D2%26hl%3Den%26sa%3D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yfwc.com/critters/images/snake.jpg&amp;imgrefurl=http://myfwc.com/critters/snakes.asp&amp;h=339&amp;w=335&amp;sz=90&amp;hl=en&amp;start=11&amp;tbnid=TnkEeLekV7qrHM:&amp;tbnh=119&amp;tbnw=118&amp;prev=/images%3Fq%3Dsnakes%26gbv%3D2%26hl%3Den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NA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SHILOH BAI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  YOU  THINK  SNAKES  ARE  INTERESTING? IF SO, READ  TO  FIND  OUT  MORE  ABOUT  THEM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809880"/>
            <a:ext cx="304776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RE  ARE  ABOUT  2,800  DIFFERENT  KINDS  OF  SNAK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NE  OF  THE  SNAKES  IS  CALLED  A  RATTLE  SNAK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3581280"/>
            <a:ext cx="24386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IR  PREY  ARE LARGE BIRDS, MONGOOSES, RACOONS, FOXES, AND COYOTE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 LOVE  TO  EAT  MONGOOSES  BECAUSE  THEY  HAVE  LOTS  OF  BLOO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4419720"/>
            <a:ext cx="4190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NAKES  ARE  BORN  WITH  YELLOW  TALES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 ARE  BORN  WITH  YELLOW  TALES  BECAUSE  THEY’RE  ONLY  A  BAB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40384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 SNAKE  CAN  GROW  UP  TO  38  FEET  LONG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 SNAKE  CAN  BE  VERY,VERY  LON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3581280"/>
            <a:ext cx="41148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  IF  YOU  HAVE  A  SNAKE  YOU  CAN  KNOW  MORE  ABOUT  IT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1907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10:38Z</dcterms:modified>
  <cp:revision>3</cp:revision>
  <dc:subject/>
  <dc:title>Animal Name</dc:title>
</cp:coreProperties>
</file>